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E10B-ADF4-40E6-B2F5-5D74197EC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AE26-E6CE-4DC2-B42F-A41B5C26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A67D-2612-496D-B02F-FF64B10CF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191C-8E89-46A1-BCE6-B48097A73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EC99-4D98-43F1-A944-DD307464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65BB-34C1-40B0-8A67-CBF7FB67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BEF5-7BA2-4CCF-A5F7-FF928B3A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35A7-D495-4CE4-9DDE-792BD10A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0B67-45C0-4058-A879-04392F33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0333-42EE-4547-A3AC-74D89A03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BA1A-8BF8-4EC6-ADEB-AA95778F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A4D9-5333-4004-8FE2-CBFD1286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1647-A6E8-441B-A1F4-B589DF530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5280" y="639720"/>
            <a:ext cx="358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usual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zé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ç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nêt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33 4 42 24 65 5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.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5 56 78 90 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.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5.11.22.34.5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.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8T11:57:23Z</dcterms:created>
  <dc:creator>gt</dc:creator>
  <dc:description/>
  <dc:language>en-US</dc:language>
  <cp:lastModifiedBy>gt</cp:lastModifiedBy>
  <dcterms:modified xsi:type="dcterms:W3CDTF">2010-08-28T11:57:29Z</dcterms:modified>
  <cp:revision>1</cp:revision>
  <dc:subject/>
  <dc:title>Diapositive 1</dc:title>
</cp:coreProperties>
</file>